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649-1DBF-4C96-9EE8-45A91C46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F79-30B2-44B7-9B66-7FCDE4AF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5A24-BB5C-4847-822A-D047BAB5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EB6-3FA1-464C-8524-4A579F31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B6F8-C7CD-46EE-83B6-344F53D8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7F86-FE07-4BB4-8164-79F89A5B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1F20-BEB1-4D92-A51E-DFA4CDB2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B85D-77CA-4FE9-A823-62FBCA5F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EA6A-0AC3-4D73-8854-F5F5B7DA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2153-7849-449E-973F-E034CCE7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AE36-7794-43B4-ACB7-992492A4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545-2925-4185-B6C3-FDCBD72A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6D88-BFBE-40D8-BCBC-E23A47E1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9683-E6F7-452D-9DAB-A09820FB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B1E6-C6BB-4464-BD47-7A2C8C77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383D-EAA2-48C8-8EA9-72B71E5D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CEB5-712D-4415-B878-8B9E6946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F4A-E41D-4555-94A6-57B43166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F4C-66EB-4717-8FDA-D2C7A875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853-7648-4C9A-9B88-5DB28C6F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0AA5-D69F-4224-A0E7-5520B0FA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DDF8-F80C-48B0-B849-399F325F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411-1EB8-49B9-BF02-A69E6BE9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B8B3-9692-4176-BB93-BA671F55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9E8A-0C23-4F89-BFCA-7D31D1235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2720"/>
                    <a:ext cx="2559960" cy="2740680"/>
                    <a:chOff x="5760360" y="2322720"/>
                    <a:chExt cx="2559960" cy="27406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40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840"/>
                    <a:ext cx="3039480" cy="2528640"/>
                    <a:chOff x="5787720" y="2148840"/>
                    <a:chExt cx="3039480" cy="25286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21680"/>
                      <a:ext cx="120096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120" y="2064240"/>
                    <a:ext cx="3097440" cy="1992960"/>
                    <a:chOff x="5775120" y="2064240"/>
                    <a:chExt cx="3097440" cy="199296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9120" cy="58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4120" cy="785880"/>
                    <a:chOff x="5788440" y="1304640"/>
                    <a:chExt cx="2364120" cy="7858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2040"/>
                      <a:ext cx="152028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160"/>
                    <a:ext cx="3134160" cy="1607760"/>
                    <a:chOff x="2010960" y="218916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3600" y="17866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000" y="137088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800" y="831600"/>
                    <a:ext cx="2170800" cy="1507320"/>
                    <a:chOff x="3160800" y="831600"/>
                    <a:chExt cx="2170800" cy="15073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6040" y="167328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6520" y="102348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2800"/>
                      <a:ext cx="151992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080"/>
                      <a:ext cx="817560" cy="41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960" y="387360"/>
                    <a:ext cx="1890000" cy="1794960"/>
                    <a:chOff x="5349960" y="387360"/>
                    <a:chExt cx="1890000" cy="17949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880" y="1386360"/>
                      <a:ext cx="142452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83920"/>
                      <a:ext cx="76644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960"/>
                    <a:ext cx="1482840" cy="2999160"/>
                    <a:chOff x="3791520" y="2649960"/>
                    <a:chExt cx="1482840" cy="299916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600" y="3439800"/>
                      <a:ext cx="1966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000" y="4743360"/>
                      <a:ext cx="105552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360" y="3486240"/>
                      <a:ext cx="1888200" cy="34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800"/>
                    <a:ext cx="1755000" cy="3029760"/>
                    <a:chOff x="5648400" y="2593800"/>
                    <a:chExt cx="1755000" cy="302976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6240"/>
                      <a:ext cx="203400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9960"/>
                      <a:ext cx="108972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760" y="2711160"/>
                    <a:ext cx="1226520" cy="2985840"/>
                    <a:chOff x="5576760" y="2711160"/>
                    <a:chExt cx="1226520" cy="29858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920" y="3542400"/>
                      <a:ext cx="19717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240" y="4881600"/>
                      <a:ext cx="105912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520" y="2886840"/>
                    <a:ext cx="666000" cy="2717640"/>
                    <a:chOff x="4961520" y="2886840"/>
                    <a:chExt cx="66600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560" y="3664800"/>
                      <a:ext cx="177300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640" y="4930560"/>
                      <a:ext cx="95112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6080"/>
                    <a:ext cx="3166560" cy="2524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2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2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412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E9A9-64A6-4AA1-8202-43959C8DA4C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Congre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ongressional Power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Picture 6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2911680" cy="2181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"/>
          <p:cNvPicPr/>
          <p:nvPr/>
        </p:nvPicPr>
        <p:blipFill>
          <a:blip r:embed="rId2"/>
          <a:stretch/>
        </p:blipFill>
        <p:spPr>
          <a:xfrm>
            <a:off x="4952880" y="200160"/>
            <a:ext cx="385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pressed Pow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se are Congressional powers that are specifically stated in the Constitution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Expressed powers are also known as delegated powers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838080" y="0"/>
            <a:ext cx="746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llect taxes and borrow mone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gulate foreign and interstate commer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in money and regulate its valu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reate federal cour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gulate immigration and naturaliz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mplied Pow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se are Congressional powers not stated specifically in the Constitution but suggested by the Constitution’s necessary and proper clau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clause is also called the elastic clau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s of Implied Pow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ongress sets a federal minimum wage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88000" indent="-28800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ongress established the United States Air Force. 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88000" indent="-2880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ongress creates federal laws against pollution.</a:t>
            </a:r>
            <a:br>
              <a:rPr sz="36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 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n-legislative Power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se are powers that enable the government to operate more effectively and help Congress serve as a check on the other branches of government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xamples of Non-Legislative Powers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atify treaties (Senat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pprove Presidential appointments (Senat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ropose amendments to the Constitution (House or Senat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ring impeachment charges against federal officials (Hous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8:38:25Z</dcterms:created>
  <dc:creator>Sys Admin</dc:creator>
  <dc:description/>
  <dc:language>en-US</dc:language>
  <cp:lastModifiedBy>SysAdmin</cp:lastModifiedBy>
  <dcterms:modified xsi:type="dcterms:W3CDTF">2011-09-21T12:02:45Z</dcterms:modified>
  <cp:revision>21</cp:revision>
  <dc:subject/>
  <dc:title>The Congress</dc:title>
</cp:coreProperties>
</file>